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C96-E325-4252-8E64-07A2CD85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783-992C-49A8-9C8A-55151887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60F-BE24-4C15-9F67-6082A3CC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CB3-EEDE-45C3-8E9C-4FDAE631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214-646B-4C08-B67A-F37BA63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5CE-7903-41A9-93BB-3DA7CBD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CFC-B29D-48D5-9832-6422B55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991-844F-4716-A52C-280A37BC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000-2459-469F-86F3-A1CA4A5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79B-20AC-4B75-B5E5-CB38260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7F4-CE03-4A14-B825-9B18EFD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0F7-AE3C-4212-9C5B-0A2F937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16D-D73D-4F49-84BA-9E23F4044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厌烦了在一个很多人一无所有的世界里拥有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兹大学得出结论，人们对成年人节目和儿童节目中使用的不良语言是有区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人的到来逐渐终结了澳大利亚土著居民的传统生活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欧盟旗子上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星星代表着欧盟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一直努力使天真的儿童远离不良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void getting confused about the British tipping system, you need to check your bill to see if a tip is included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避免对英国小费的困惑，您要查看账单上是不是包括小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old her the coat suited her, but she looked very embarrassed, saying that it was a cheap one she had bought a long time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对她说，这件衣服真适合她穿，没想到她看上去很不好意思，解释说那件衣服是很早以前买的，非常便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first, we didn’t feel we belong here, but now we are attached to the land we live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初，我并不认为自己属于这里，但是现在我们已与我们所居住的土地紧紧地联系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ival of white people gradually brought an end to the traditional Aboriginal wa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人的到来逐渐终结了澳大利亚土著居民的传统生活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from “closed”cultures are usually quieter and seem shyer and more modest than people from “open”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自“封闭”文化的人们要比“开放”文化背景下的人们更加安静，羞涩和谦虚内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避免对英国小费的困惑，您要查看账单上是不是包括小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自“封闭”文化的人们要比“开放”文化背景下的人们更加安静，羞涩和谦虚内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初，我并不认为自己属于这里，但是现在我们已与我们所居住的土地紧紧地联系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人的到来逐渐终结了澳大利亚土著居民的传统生活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对她说，这件衣服真适合她穿，没想到她看上去很不好意思，解释说那件衣服是很早以前买的，非常便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利兹大学得出结论，人们对成年人节目和儿童节目中使用的不良语言是有区分的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eds University concluded that people made a distinction between bad language used in programmes for adults,and those meant for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一直努力使天真的儿童远离不良语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always tried to keep bad language away from innocent 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些公益广告有助于增加公众知识，使社会更加美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advertisements have helped to increase public knowledge,which has made our society a better place for every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们每年夏天会面，讨论有关全世界的重要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eet every summer to discuss major problems that concern the whol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府计划明年开始建造这个建筑（机场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vernment is planning to go ahead with the building next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每年夏天会面，讨论有关全世界的重要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政府计划明年开始建造这个建筑（机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一直努力使天真的儿童远离不良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兹大学得出结论，人们对成年人节目和儿童节目中使用的不良语言是有区分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公益广告有助于增加公众知识，使社会更加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有高质量的塑料制成，也有着吸引人的，现代化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He was tired of being a person who had everything in a world where many people had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厌烦了在一个很多人一无所有的世界里拥有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Every year, approximately 1.6 billion tons of soil flows into the Yellow River, China’s second longest 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年，大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吨的土壤流入了中国第二长河，黄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In fact, it is you who have the most important role to play in stopping Yellow River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际上，正是你在阻止黄河侵蚀上起到了最重要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It is made of good quality plastic and has an attractive, modern design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有高质量的塑料制成，也有着吸引人的，现代化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The 12 stars on the European flag represent the 12 countries within the European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欧盟旗子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星星代表着欧盟内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7-03T01:50:3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