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D0F-66F5-491D-A7E8-CB0986E4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543-5DC9-4CC9-B245-A9116051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12E-E0DE-4E8A-BB77-9ED83ABC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69E-3710-4347-99AF-40E5B0B4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58B-D3FB-4CDE-A45E-E372D135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1B8-6768-453F-81EF-4B34639B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6D1-2217-4AFA-A72E-B2D1089D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EB9-8340-4959-B07F-F05D4325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AD9-8797-45C8-956E-A20EA87A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600-55D7-4B70-BD82-199DC449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AA3-2A86-4E71-9E08-7665551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2C2-0AB7-4BF7-82AC-F68E8C20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6D96-3C28-4E65-B251-E1E9D8A1C8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He was tired of being a person who had everything in a world where many people had n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厌烦了在一个很多人一无所有的世界里拥有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Every year, approximately 1.6 billion tons of soil flows into the Yellow River, China’s second longest r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年，大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亿吨的土壤流入了中国第二长河，黄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In fact, it is you who have the most important role to play in stopping Yellow River er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际上，正是你在阻止黄河侵蚀上起到了最重要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It is made of good quality plastic and has an attractive, modern design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有高质量的塑料制成，也有着吸引人的，现代化的设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The 12 stars on the European flag represent the 12 countries within the European U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欧盟旗子上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星星代表着欧盟内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ni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利兹大学得出结论，人们对成年人节目和儿童节目中使用的不良语言是有区分的。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Leeds University concluded that people made a distinction between bad language used in programmes for adults,and those meant for child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一直努力使天真的儿童远离不良语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We have always tried to keep bad language away from innocent 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些公益广告有助于增加公众知识，使社会更加美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ese advertisements have helped to increase public knowledge,which has made our society a better place for every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们每年夏天会面，讨论有关全世界的重要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ey meet every summer to discuss major problems that concern the whol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政府计划明年开始建造这个建筑（机场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e government is planning to go ahead with the building next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Unit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o avoid getting confused about the British tipping system, you need to check your bill to see if a tip is included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了避免对英国小费的困惑，您要查看账单上是不是包括小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I told her the coat suited her, but she looked very embarrassed, saying that it was a cheap one she had bought a long time 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对她说，这件衣服真适合她穿，没想到她看上去很不好意思，解释说那件衣服是很早以前买的，非常便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t first, we didn’t feel we belong here, but now we are attached to the land we live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起初，我并不认为自己属于这里，但是现在我们已与我们所居住的土地紧紧地联系在一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he arrival of white people gradually brought an end to the traditional Aboriginal way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人的到来逐渐终结了澳大利亚土著居民的传统生活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eople from “closed”cultures are usually quieter and seem shyer and more modest than people from “open”cul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自“封闭”文化的人们要比“开放”文化背景下的人们更加安静，羞涩和谦虚内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6-20T06:22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